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413-B8F9-43E8-8175-75AF4BBE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D1A-A7DF-4855-A9FF-7BFFB429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D6E-D10E-4025-B653-C19D249B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4FE-FCAE-49E5-8CD2-6BDBB2E1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3A9D-9E90-43F2-A035-DE98EB13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2ADE-6138-49BF-9526-93DAF4D6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FD92-2476-4AD8-A1BF-09122770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D1FA-B90A-41BA-8ABA-803B9778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4488-0A12-4A24-A3CB-83177AE5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C6B4-25E6-4D88-B8E8-BF09F98E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7E5F-8448-4700-B75D-A21BFBF0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4FC-F978-4A94-B08A-C344AC11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4734-4E3D-4A1D-9F16-92B0FC10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CC60-D02B-4274-AEEA-36B124A2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E78C-34DE-4635-B6AF-67E15A12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F76C-D896-4E9E-B8BB-4DFA5AFA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236F-3CBE-4C0C-A582-4FD5D473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7EC-FF0B-4356-B366-1EBC52E2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6D46-F049-476A-A1F7-516A17CF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734-CC94-4F41-8430-71A46A17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320-B845-4291-9C54-62E573D9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489-1C5F-4B43-9986-34EFFD7C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7A6-54A9-4BA9-9E1C-BABF8ECB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95A-BAFB-4800-BE23-16160C1F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A257-870F-479E-AD4B-AB2482C913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76A1-234C-4CC6-852D-1B62150D0F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一章  经济全球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主要内容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产生与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特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发展趋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一、经济全球化的产生与发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定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资源配置角度的定义：资源配置的全球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生产关系角度的定义：资本主义生产关系的全球普遍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发展历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以前的萌芽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初的生长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两次世界大战期间以及战后的曲折发展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末而今的迅速扩展与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经济全球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跨国公司作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技术进步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国际机构驱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矛盾演化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综合因素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世界政治环境的变化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科学技术突破性发展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跨国公司的全球战略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新自由主义的兴起（国际组织奉行“华盛顿共识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ashington Consensus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最早由当时任世界银行官员的经济学家约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威廉姆森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ohn Williamson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99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提出。当时他提出这一“共识”基于拉美国家截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代末经济改革的既有成败经验，提出“共识”的意图是把它作为拉美国家经济改革的指导思想。“华盛顿共识”出台之后，得到了世界银行和国际货币基金组织的支持。主要内容：税收改革（降低边际税率和扩大税基）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利率自由化，竞争性的汇率，贸易自由化，外国直接投资的流入自由化，私有化，放松管制（以消除进入或者退出障碍），保护产权。世界银行和国际货币基金组织等国际组织把“华盛顿共识”作为发展援助或者危机救援的 “前置条件”使用，推进经济自由化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经济全球化的特征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经济和新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信息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为基础的经济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垂直型、水平型）日益深化的经济全球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主体的多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家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银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市场体系的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与国际间区域一体化和集团化并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国的核心竞争力发生变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和人力资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达国家在经济全球化过程中起着主导作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全球化背景下更加凸显国家和民族利益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经济全球化的影响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达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积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拓展市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贸易增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竞争推动技术创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消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资源与环境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就业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展中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吸引外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引进外来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推动技术进步和产业调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强企业竞争力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得以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贸易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不利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中的不利地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展中国家的发展不平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主权受到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安全受到挑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经济全球化发展趋势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金融业在经济全球化中举足轻重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国际贸易进一步推动市场的一体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跨国公司推动着全球化的深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信息技术将彻底改变人类的生产与生活方式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经济风险全球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05:56:29Z</dcterms:created>
  <dc:creator>YPL</dc:creator>
  <dc:description/>
  <dc:language>en-US</dc:language>
  <cp:lastModifiedBy>Dell</cp:lastModifiedBy>
  <dcterms:modified xsi:type="dcterms:W3CDTF">2021-08-23T22:43:04Z</dcterms:modified>
  <cp:revision>15</cp:revision>
  <dc:subject/>
  <dc:title>第一章  经济全球化</dc:title>
</cp:coreProperties>
</file>